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2C38-5ABC-4124-A431-7DD45C45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ACC-9273-4586-A013-E9AC2C8A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2761-99E2-4C74-AA8F-8D852854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F72-2AE3-4CD8-9DD1-537E369C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5D67-4D1F-4349-AF8E-306AFB88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6F2-BF33-4E5B-91AD-38BC7BF2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1CE4-B0EF-47E9-9FCD-155839AC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F0E-DC0B-4E06-B4EB-5A3EAF29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68A-6363-4F12-858C-4D5A9232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70E-3864-41C8-B204-9D81F01B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E82-775F-43DA-A64E-4ACD3C1D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550-032F-4413-82F7-81EBAAF6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E776-B7C2-44EA-ACD5-7EB17B667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ild Re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ildReassessment9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ildReassessment10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ildReassessment11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hildReassessment12.jpg"/>
          <p:cNvPicPr/>
          <p:nvPr/>
        </p:nvPicPr>
        <p:blipFill>
          <a:blip r:embed="rId1"/>
          <a:stretch/>
        </p:blipFill>
        <p:spPr>
          <a:xfrm>
            <a:off x="757080" y="828720"/>
            <a:ext cx="76298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hildReassessment13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ildReassessment1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ildReassessment2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ildReassessment3.jpg"/>
          <p:cNvPicPr/>
          <p:nvPr/>
        </p:nvPicPr>
        <p:blipFill>
          <a:blip r:embed="rId1"/>
          <a:stretch/>
        </p:blipFill>
        <p:spPr>
          <a:xfrm>
            <a:off x="752400" y="828720"/>
            <a:ext cx="76392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ildReassessment4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ildReassessment5.jpg"/>
          <p:cNvPicPr/>
          <p:nvPr/>
        </p:nvPicPr>
        <p:blipFill>
          <a:blip r:embed="rId1"/>
          <a:stretch/>
        </p:blipFill>
        <p:spPr>
          <a:xfrm>
            <a:off x="757080" y="819000"/>
            <a:ext cx="762984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ildReassessment6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ildReassessment7.jpg"/>
          <p:cNvPicPr/>
          <p:nvPr/>
        </p:nvPicPr>
        <p:blipFill>
          <a:blip r:embed="rId1"/>
          <a:stretch/>
        </p:blipFill>
        <p:spPr>
          <a:xfrm>
            <a:off x="781200" y="838080"/>
            <a:ext cx="7581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ildReassessment8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13:33:08Z</dcterms:created>
  <dc:creator>zcui</dc:creator>
  <dc:description/>
  <dc:language>en-US</dc:language>
  <cp:lastModifiedBy>rbalne</cp:lastModifiedBy>
  <dcterms:modified xsi:type="dcterms:W3CDTF">2009-08-12T13:57:34Z</dcterms:modified>
  <cp:revision>1</cp:revision>
  <dc:subject/>
  <dc:title>TRAC</dc:title>
</cp:coreProperties>
</file>